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87E-9FE0-4DF2-AF84-F296DB7B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BC4-B312-4CB5-B25C-B55843E2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D70-9318-4765-BF59-5ED5EF35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34C-6E99-45B0-B3A8-A8D0AF7C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97C9-F505-4450-9B77-F4470399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4042-A42A-438B-B2FB-831A5921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34B6-2CBD-4237-B6C0-848BC85D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A847-C5EA-4389-8149-66F8CED2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0B56-C765-480A-8098-0F3F4F60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5DCD-4D1B-4DED-B1A2-78C7B1F9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A3F6-9427-4A65-AC14-25FCA32A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33F-0395-43C2-A1D0-262900D2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375F-824D-4CCA-A934-C68E4C9A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E631-E5BC-487A-8FFA-FC282698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39F3-DA05-4508-BF33-46389086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F4A0-1B40-437C-85C0-A2C6D28B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E424-04B1-4561-BADB-7D959A0B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85F-A41C-4B26-B8E1-F4A7A534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32D-9DAA-4C16-9D0C-F0813117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8AC-84EF-4F8E-B2D6-EEE921B1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990-832F-458E-8507-F461FE11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177-BDEB-440C-9BE7-122AD589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F315-5696-4BBF-9A2C-FB5626C3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97C-822C-47F9-B3CE-50A2EF0D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72CD-9D5E-46EA-A371-2373FF41EDD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F5D4-7E5C-45C5-8325-BBCAA6F263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ВОЛЮЦИЯ-ЛОЖ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User</cp:lastModifiedBy>
  <dcterms:modified xsi:type="dcterms:W3CDTF">2012-06-16T07:59:47Z</dcterms:modified>
  <cp:revision>11</cp:revision>
  <dc:subject/>
  <dc:title>Слайд 1</dc:title>
</cp:coreProperties>
</file>